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D109-BDA9-4F10-BF8F-79433150C12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Философия бизнеса описывается простой формулой: из одной тонны горных пород добывается в среднем 2 грамма золота. В лучших местах до 18 грам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E8D0-7479-496A-B231-0DC7EF548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8E26-6160-46EB-8F55-0EC4D553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1F63-DA37-48AC-9993-890273D3C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01DD-FE70-46C3-8592-FAD86B61A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574D-FACC-44F3-8CDE-1E2C1762C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4912-8C51-4813-872D-1289BD23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3A9B-CD94-4522-ABEC-EB6B6E9D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340F-2101-4E8E-8D25-977BCB0C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9E6DA-3EE8-4AA1-A937-7C7A12D2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DE9B-1BA5-4CA0-A2E1-F66A310C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8AFDC-4DBB-4846-A0E9-193CFD18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1547-8EFA-448D-AA7A-6C23CBBD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EBB2-EF3E-46BD-990E-9F20D140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C5C9-DC37-4F20-8A13-2FC07D54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FD10-C4D9-4967-B96B-CE95BCD0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3AE0-3864-483C-A55B-232F6825C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A0C7-87A5-4D7B-8CAB-963ED7534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1559-2CF5-46E1-A36D-B7B706AE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6142-A101-401A-8DC9-AECB3F12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9B62-EB00-4CA3-BCDA-E25A4BB1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E1F7-2FA5-40EB-9221-A9DD1C4D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CED4-6129-421B-9948-60492664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0AD6-6697-4046-AB37-3EB6B4FF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B239-2838-458E-B47B-751353B9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D28B-E24B-495E-8029-E10AAA91AB2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99F3-26D3-4DB6-9DA0-531A9A50DC4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292720" y="404640"/>
            <a:ext cx="3419640" cy="11080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pe-rus.com/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public@datadirect.ru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85600" y="3141360"/>
            <a:ext cx="82580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Segmentation. Scoring. Profiling.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Or how to get maximum profit from your Database?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5661000"/>
            <a:ext cx="52578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Valeria Pavlyukovskay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PE Group Commercial Dire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930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RFM</a:t>
            </a:r>
            <a:r>
              <a:rPr b="1" lang="ru-RU" sz="3300" spc="-1" strike="noStrike">
                <a:solidFill>
                  <a:srgbClr val="eaeaea"/>
                </a:solidFill>
                <a:latin typeface="Tahoma"/>
              </a:rPr>
              <a:t>-</a:t>
            </a:r>
            <a:r>
              <a:rPr b="1" lang="en-US" sz="3300" spc="-1" strike="noStrike">
                <a:solidFill>
                  <a:srgbClr val="eaeaea"/>
                </a:solidFill>
                <a:latin typeface="Tahoma"/>
              </a:rPr>
              <a:t>segmentation</a:t>
            </a:r>
            <a:r>
              <a:rPr b="1" lang="ru-RU" sz="3300" spc="-1" strike="noStrike">
                <a:solidFill>
                  <a:srgbClr val="eaeaea"/>
                </a:solidFill>
                <a:latin typeface="Tahoma"/>
              </a:rPr>
              <a:t>: </a:t>
            </a:r>
            <a:br>
              <a:rPr sz="3300"/>
            </a:br>
            <a:r>
              <a:rPr b="1" lang="en-US" sz="3300" spc="-1" strike="noStrike">
                <a:solidFill>
                  <a:srgbClr val="eaeaea"/>
                </a:solidFill>
                <a:latin typeface="Tahoma"/>
              </a:rPr>
              <a:t>how do we regroup our 25 segments? </a:t>
            </a:r>
            <a:endParaRPr b="1" lang="en-US" sz="33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900000" y="1557360"/>
            <a:ext cx="806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n order to get as a Result global marketing segments we analyze each of 25 segments Response to several standard action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451640" y="2852640"/>
            <a:ext cx="15843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Final Segm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451640" y="3284640"/>
            <a:ext cx="158436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66"/>
                </a:solidFill>
                <a:latin typeface="Tahoma"/>
              </a:rPr>
              <a:t>Very Good Clien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451640" y="3789360"/>
            <a:ext cx="1582920" cy="291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66"/>
                </a:solidFill>
                <a:latin typeface="Tahoma"/>
              </a:rPr>
              <a:t>Good Clien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451640" y="4294080"/>
            <a:ext cx="1582920" cy="291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66"/>
                </a:solidFill>
                <a:latin typeface="Tahoma"/>
              </a:rPr>
              <a:t>New Arrival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451640" y="4870440"/>
            <a:ext cx="1582920" cy="291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66"/>
                </a:solidFill>
                <a:latin typeface="Tahoma"/>
              </a:rPr>
              <a:t>Casual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451640" y="5446800"/>
            <a:ext cx="1582920" cy="2919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66"/>
                </a:solidFill>
                <a:latin typeface="Tahoma"/>
              </a:rPr>
              <a:t>Pur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900000" y="2781360"/>
          <a:ext cx="6336000" cy="37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781360"/>
                    <a:ext cx="6336000" cy="37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7451640" y="6021360"/>
            <a:ext cx="1582920" cy="2919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66"/>
                </a:solidFill>
                <a:latin typeface="Tahoma"/>
              </a:rPr>
              <a:t>Sleepin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280" y="304560"/>
            <a:ext cx="84312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Where do we use these segments? </a:t>
            </a:r>
            <a:br>
              <a:rPr sz="36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= </a:t>
            </a: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For each action results analysis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25257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4365720"/>
            <a:ext cx="8893080" cy="24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Unique standard for Actions Archives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600" spc="-1" strike="noStrike">
                <a:solidFill>
                  <a:srgbClr val="cc3300"/>
                </a:solidFill>
                <a:latin typeface="Arial"/>
                <a:ea typeface="Arial"/>
              </a:rPr>
              <a:t>Platform for planning and DM activities optimiz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Opportunity to define NORMS (AOV, Latency) for each Segment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600" spc="-1" strike="noStrike">
                <a:solidFill>
                  <a:srgbClr val="cc3300"/>
                </a:solidFill>
                <a:latin typeface="Arial"/>
                <a:ea typeface="Arial"/>
              </a:rPr>
              <a:t>Operational Warning System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Operational tool for Concrete Action efficiency estim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0" y="260280"/>
            <a:ext cx="84312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Where do we use these segments? </a:t>
            </a:r>
            <a:br>
              <a:rPr sz="36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= </a:t>
            </a: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For global business efficiency estimation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5516640"/>
            <a:ext cx="9144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4365720"/>
            <a:ext cx="914400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SEASON duration should be defined depending on company actions regularity/rhythm (1 per month, quarter, 6 months..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As a result of identical periods comparison (Q3 2004/2005) we can identify at once problem KPIs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300" spc="-1" strike="noStrike">
                <a:solidFill>
                  <a:srgbClr val="cc3300"/>
                </a:solidFill>
                <a:latin typeface="Arial"/>
                <a:ea typeface="Arial"/>
              </a:rPr>
              <a:t>Operational Monitoring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All these DB KPIs let us for 95% precise next seasons budget forecast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68360" y="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atabase seasonal KPI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3672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619280" y="2349360"/>
            <a:ext cx="792000" cy="50328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84720" y="2349360"/>
            <a:ext cx="792360" cy="50328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16000" y="3068640"/>
            <a:ext cx="6985080" cy="115236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If Rule 20/80 works for you?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And who is the Gold of Your Business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11280" y="2708280"/>
            <a:ext cx="1656000" cy="36036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932000" y="2637000"/>
            <a:ext cx="1152360" cy="4316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020000" y="4076640"/>
            <a:ext cx="914400" cy="43200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00720" y="4076640"/>
            <a:ext cx="914400" cy="43200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4581360"/>
            <a:ext cx="9144000" cy="227664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nowing </a:t>
            </a: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1)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Volume of your Active DB at the end of Sea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2)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Average qty of Orders per Season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3)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Average Turnover Per Each Active Cli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You can Calculate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Qty of Orders and Turnover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for next Season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171360"/>
            <a:ext cx="86104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Segmentation allows you to personalize your Annual Action Plan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8388360" cy="53006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6877080" y="3284640"/>
            <a:ext cx="2266920" cy="35733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932360" y="1557360"/>
            <a:ext cx="4211640" cy="1617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391" y="1526"/>
                </a:moveTo>
                <a:lnTo>
                  <a:pt x="-3395" y="1526"/>
                </a:lnTo>
                <a:lnTo>
                  <a:pt x="-3395" y="31796"/>
                </a:lnTo>
                <a:lnTo>
                  <a:pt x="9803" y="58547"/>
                </a:lnTo>
              </a:path>
            </a:pathLst>
          </a:custGeom>
          <a:solidFill>
            <a:srgbClr val="ffffff"/>
          </a:solidFill>
          <a:ln w="63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1/ </a:t>
            </a:r>
            <a:r>
              <a:rPr b="1" lang="en-US" sz="2300" spc="-1" strike="noStrike" u="sng">
                <a:solidFill>
                  <a:srgbClr val="cc3300"/>
                </a:solidFill>
                <a:uFillTx/>
                <a:latin typeface="Tahoma"/>
              </a:rPr>
              <a:t>Actions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 for your Future Action Plan are chosen on the basis of your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Tahoma"/>
              </a:rPr>
              <a:t>Historical Actions Results + Test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363840" y="4511520"/>
            <a:ext cx="4953240" cy="2232360"/>
          </a:xfrm>
          <a:prstGeom prst="borderCallout2">
            <a:avLst>
              <a:gd name="adj1" fmla="val 18750"/>
              <a:gd name="adj2" fmla="val -8333"/>
              <a:gd name="adj3" fmla="val 5120"/>
              <a:gd name="adj4" fmla="val -17337"/>
              <a:gd name="adj5" fmla="val -35634"/>
              <a:gd name="adj6" fmla="val -33750"/>
            </a:avLst>
          </a:prstGeom>
          <a:solidFill>
            <a:srgbClr val="ffffff"/>
          </a:solidFill>
          <a:ln w="63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2/ </a:t>
            </a:r>
            <a:r>
              <a:rPr b="1" lang="en-US" sz="2300" spc="-1" strike="noStrike" u="sng">
                <a:solidFill>
                  <a:srgbClr val="cc3300"/>
                </a:solidFill>
                <a:uFillTx/>
                <a:latin typeface="Tahoma"/>
              </a:rPr>
              <a:t>Potential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 in Each Segment for the beginning of Each Season is calculated on the basis of TRANSFORMATION RATE + possible FACTOR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16000" y="2708280"/>
            <a:ext cx="863640" cy="50472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16000" y="3429000"/>
            <a:ext cx="863640" cy="50472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16000" y="4005360"/>
            <a:ext cx="863640" cy="50472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724280"/>
            <a:ext cx="863640" cy="50508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16000" y="5373720"/>
            <a:ext cx="863640" cy="50472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1557360"/>
            <a:ext cx="2340000" cy="1071720"/>
          </a:xfrm>
          <a:prstGeom prst="borderCallout2">
            <a:avLst>
              <a:gd name="adj1" fmla="val 18750"/>
              <a:gd name="adj2" fmla="val -8333"/>
              <a:gd name="adj3" fmla="val 10666"/>
              <a:gd name="adj4" fmla="val 108685"/>
              <a:gd name="adj5" fmla="val 119111"/>
              <a:gd name="adj6" fmla="val 114314"/>
            </a:avLst>
          </a:prstGeom>
          <a:solidFill>
            <a:srgbClr val="ffffff"/>
          </a:solidFill>
          <a:ln w="63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3/ </a:t>
            </a:r>
            <a:r>
              <a:rPr b="1" lang="en-US" sz="2000" spc="-1" strike="noStrike" u="sng">
                <a:solidFill>
                  <a:srgbClr val="cc3300"/>
                </a:solidFill>
                <a:uFillTx/>
                <a:latin typeface="Tahoma"/>
              </a:rPr>
              <a:t>Response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= from History + T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84360" y="2781360"/>
            <a:ext cx="1152720" cy="43164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Add Average Order Value (historical or planned) = </a:t>
            </a:r>
            <a:r>
              <a:rPr b="1" lang="en-US" sz="3600" spc="-1" strike="noStrike">
                <a:solidFill>
                  <a:srgbClr val="cc3300"/>
                </a:solidFill>
                <a:latin typeface="Tahoma"/>
              </a:rPr>
              <a:t>Your Have Your Budget!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24494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39640" y="4076640"/>
            <a:ext cx="8353440" cy="32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Usage of </a:t>
            </a:r>
            <a:r>
              <a:rPr b="0" lang="en-US" sz="2600" spc="-1" strike="noStrike">
                <a:solidFill>
                  <a:srgbClr val="cc3300"/>
                </a:solidFill>
                <a:latin typeface="Tahoma"/>
              </a:rPr>
              <a:t>Pure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Historical Data or History + </a:t>
            </a:r>
            <a:r>
              <a:rPr b="0" lang="en-US" sz="2600" spc="-1" strike="noStrike">
                <a:solidFill>
                  <a:srgbClr val="cc3300"/>
                </a:solidFill>
                <a:latin typeface="Tahoma"/>
              </a:rPr>
              <a:t>Improvement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depends on your future marketing plan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3300"/>
                </a:solidFill>
                <a:latin typeface="Tahoma"/>
              </a:rPr>
              <a:t>Monitoring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of Planned Budget is realized with already mentioned tools: Action KPIs + General Database KPI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95280" y="2924280"/>
            <a:ext cx="874872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Score model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 a system of criteria with concrete weights allowing us to identify the weight = probability of each client to answer or not to your offe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ed on all information on each client you have in your database: Region, Age, Gender, Lifestyle data …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plication of Score Model to the concrete Segment allows to identify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final potenti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corresponding with Current Action Objectives (for example: 7% Response Rate for Product Offer of 230 US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-316080"/>
            <a:ext cx="889308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coring:</a:t>
            </a: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 2</a:t>
            </a:r>
            <a:r>
              <a:rPr b="1" lang="en-US" sz="2800" spc="-1" strike="noStrike" baseline="30000">
                <a:solidFill>
                  <a:srgbClr val="cc3300"/>
                </a:solidFill>
                <a:latin typeface="Tahoma"/>
              </a:rPr>
              <a:t>nd</a:t>
            </a: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 step to improve Action results</a:t>
            </a:r>
            <a:r>
              <a:rPr b="1" lang="en-US" sz="4400" spc="-1" strike="noStrike">
                <a:solidFill>
                  <a:srgbClr val="cc33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907920"/>
            <a:ext cx="5148360" cy="16779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Answers to the </a:t>
            </a:r>
            <a:r>
              <a:rPr b="1" lang="en-US" sz="2600" spc="-1" strike="noStrike" u="sng">
                <a:solidFill>
                  <a:srgbClr val="cc3300"/>
                </a:solidFill>
                <a:uFillTx/>
                <a:latin typeface="Tahoma"/>
              </a:rPr>
              <a:t>question: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 “What should I do if Segment X gives me Response lower than Break Even Point?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Do we need more? Scoring.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ency 8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quency 6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F = Database Segmentation = 9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How to obtain 10% mor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Check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onetary, Age, Region, Gender, Product list,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How score work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25146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e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que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net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duct 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696080" y="1905120"/>
            <a:ext cx="755640" cy="9144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696080" y="3124080"/>
            <a:ext cx="1016280" cy="8161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7620120" y="4114800"/>
            <a:ext cx="987480" cy="8827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7772400" y="5181480"/>
            <a:ext cx="831960" cy="12067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5"/>
          <a:stretch/>
        </p:blipFill>
        <p:spPr>
          <a:xfrm>
            <a:off x="7543800" y="762120"/>
            <a:ext cx="990720" cy="8841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7238880" y="380880"/>
            <a:ext cx="1676520" cy="13716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14018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581280" y="1401840"/>
            <a:ext cx="1524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62200" y="22096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0-30 da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22129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+ 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562200" y="28036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2 or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28036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+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33526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200 r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638680" y="333684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+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24400" y="3886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715000" y="38512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524400" y="45180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em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676840" y="44956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+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05320" y="51656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outhe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15000" y="51656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 0.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505320" y="569916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y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15000" y="569916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+1.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38080" y="6172200"/>
            <a:ext cx="6782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15000" y="6172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505320" y="6172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o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How score work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25146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e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que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net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duct 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7696080" y="1905120"/>
            <a:ext cx="755640" cy="9144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7696080" y="3124080"/>
            <a:ext cx="1016280" cy="8161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7620120" y="4114800"/>
            <a:ext cx="987480" cy="8827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7772400" y="5181480"/>
            <a:ext cx="831960" cy="12067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5"/>
          <a:stretch/>
        </p:blipFill>
        <p:spPr>
          <a:xfrm>
            <a:off x="7543800" y="762120"/>
            <a:ext cx="990720" cy="8841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7315200" y="1676520"/>
            <a:ext cx="1676520" cy="13716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486400" y="14018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581280" y="1401840"/>
            <a:ext cx="1524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562200" y="220968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31-60 da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638680" y="22129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+ 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562200" y="28036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3 or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638680" y="28036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+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505320" y="33526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2500 r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38680" y="333684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+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524400" y="3886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5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15000" y="38512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+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524400" y="45180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em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676840" y="44956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+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505320" y="51656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ar Ea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15000" y="51656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+1.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505320" y="569916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y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15000" y="569916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+1.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38080" y="6172200"/>
            <a:ext cx="6782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15000" y="6172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2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505320" y="6172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o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086600" y="990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Data Direct is one of </a:t>
            </a:r>
            <a:br>
              <a:rPr sz="3600"/>
            </a:br>
            <a:r>
              <a:rPr b="1" lang="en-US" sz="3600" spc="-1" strike="noStrike">
                <a:solidFill>
                  <a:srgbClr val="cc3300"/>
                </a:solidFill>
                <a:latin typeface="Tahoma"/>
              </a:rPr>
              <a:t>PPE Group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 companies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56944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PPE Grou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www.ppe-rus.co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 – leader in distance selling in Russia (mail order, e-commerce, telesal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tabase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Mail Ord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22 mln. prospects and buyers (3 mln. buyer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E-Commerc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&gt; 1 mln. prospects and buyers (400K buyer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ta Direct was founded in 2001 in order to manage PPE databases + to sale Group services to external compani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How score work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25146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e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que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net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duct 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7696080" y="1905120"/>
            <a:ext cx="755640" cy="9144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7696080" y="3124080"/>
            <a:ext cx="1016280" cy="81612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7620120" y="4114800"/>
            <a:ext cx="987480" cy="8827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7772400" y="5181480"/>
            <a:ext cx="831960" cy="12067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7543800" y="762120"/>
            <a:ext cx="990720" cy="8841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7315200" y="2895480"/>
            <a:ext cx="1676520" cy="11430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486400" y="14018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581280" y="1401840"/>
            <a:ext cx="1524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562200" y="220968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365+ da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638680" y="22129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562200" y="28036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 or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638680" y="28036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+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505320" y="33526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5000 r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638680" y="333684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+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524400" y="3886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715000" y="38512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+ 0.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524400" y="45180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676840" y="44956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+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505320" y="51656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ent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715000" y="51656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+1.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505320" y="569916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715000" y="569916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+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38080" y="6172200"/>
            <a:ext cx="6782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715000" y="6172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505320" y="6172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o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086600" y="990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08660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2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How score work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25146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e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que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net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duct 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7696080" y="1905120"/>
            <a:ext cx="755640" cy="9144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7696080" y="3124080"/>
            <a:ext cx="1016280" cy="81612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7620120" y="4114800"/>
            <a:ext cx="987480" cy="88272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7772400" y="5181480"/>
            <a:ext cx="831960" cy="12067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5"/>
          <a:stretch/>
        </p:blipFill>
        <p:spPr>
          <a:xfrm>
            <a:off x="7543800" y="762120"/>
            <a:ext cx="990720" cy="8841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7315200" y="4038480"/>
            <a:ext cx="1676520" cy="11430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486400" y="14018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581280" y="1401840"/>
            <a:ext cx="1524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562200" y="220968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90-180 da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638680" y="22129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+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562200" y="28036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6 or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638680" y="28036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+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505320" y="33526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8000 r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638680" y="333684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+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524400" y="3886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5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715000" y="38512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+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524400" y="45180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em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676840" y="44956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+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505320" y="516564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North-W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715000" y="51656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+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505320" y="569916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715000" y="569916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+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38080" y="6172200"/>
            <a:ext cx="6782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715000" y="6172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505320" y="6172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o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86600" y="990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08660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2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124760" y="32004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360" y="-17172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How score work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25146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e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que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net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duct 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7696080" y="1905120"/>
            <a:ext cx="755640" cy="9144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7696080" y="3124080"/>
            <a:ext cx="1016280" cy="8161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7620120" y="4114800"/>
            <a:ext cx="987480" cy="88272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7772400" y="5181480"/>
            <a:ext cx="831960" cy="120672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5"/>
          <a:stretch/>
        </p:blipFill>
        <p:spPr>
          <a:xfrm>
            <a:off x="7543800" y="762120"/>
            <a:ext cx="990720" cy="8841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7257960" y="5105520"/>
            <a:ext cx="1676520" cy="14475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486400" y="14018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581280" y="1401840"/>
            <a:ext cx="1524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562200" y="2209680"/>
            <a:ext cx="200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80-365 da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638680" y="22129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+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562200" y="28036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 ord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638680" y="28036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+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505320" y="33526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600 r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638680" y="333684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+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524400" y="3886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4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715000" y="38512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+ 1.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524400" y="45180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676840" y="44956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+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505320" y="516564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Volg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715000" y="51656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505320" y="569916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y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715000" y="569916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+1.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38080" y="6172200"/>
            <a:ext cx="6782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715000" y="6172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505320" y="6172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o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990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08660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2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124760" y="32004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162920" y="42512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How score work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7696080" y="1905120"/>
            <a:ext cx="755640" cy="91440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7696080" y="3124080"/>
            <a:ext cx="1016280" cy="8161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7620120" y="4114800"/>
            <a:ext cx="987480" cy="88272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4"/>
          <a:stretch/>
        </p:blipFill>
        <p:spPr>
          <a:xfrm>
            <a:off x="7772400" y="5181480"/>
            <a:ext cx="831960" cy="120672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5"/>
          <a:stretch/>
        </p:blipFill>
        <p:spPr>
          <a:xfrm>
            <a:off x="7543800" y="762120"/>
            <a:ext cx="990720" cy="88416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86600" y="990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08660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2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124760" y="32004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162920" y="42512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162920" y="5334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08660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2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086600" y="990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How score work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755640" cy="9144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7772400" y="5638680"/>
            <a:ext cx="1015920" cy="81612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3"/>
          <a:stretch/>
        </p:blipFill>
        <p:spPr>
          <a:xfrm>
            <a:off x="4419720" y="3124080"/>
            <a:ext cx="987480" cy="88272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4"/>
          <a:stretch/>
        </p:blipFill>
        <p:spPr>
          <a:xfrm>
            <a:off x="6248520" y="4267080"/>
            <a:ext cx="831600" cy="120672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5"/>
          <a:stretch/>
        </p:blipFill>
        <p:spPr>
          <a:xfrm>
            <a:off x="2895480" y="2209680"/>
            <a:ext cx="990720" cy="88452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2438280" y="22860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219800" y="57150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962520" y="32004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791320" y="47242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066680" y="16765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2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28600" y="4267080"/>
            <a:ext cx="876312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010280" y="1447920"/>
            <a:ext cx="175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8000" spc="-1" strike="noStrike">
                <a:solidFill>
                  <a:srgbClr val="ffffcc"/>
                </a:solidFill>
                <a:latin typeface="Tahoma"/>
              </a:rPr>
              <a:t>A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066680" y="4952880"/>
            <a:ext cx="167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B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990720" y="358128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ahoma"/>
              </a:rPr>
              <a:t>Score &gt; 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3000"/>
                            </p:stCondLst>
                            <p:childTnLst>
                              <p:par>
                                <p:cTn id="5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4000"/>
                            </p:stCondLst>
                            <p:childTnLst>
                              <p:par>
                                <p:cTn id="5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4500"/>
                            </p:stCondLst>
                            <p:childTnLst>
                              <p:par>
                                <p:cTn id="5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0"/>
                            </p:stCondLst>
                            <p:childTnLst>
                              <p:par>
                                <p:cTn id="5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500"/>
                            </p:stCondLst>
                            <p:childTnLst>
                              <p:par>
                                <p:cTn id="5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6000"/>
                            </p:stCondLst>
                            <p:childTnLst>
                              <p:par>
                                <p:cTn id="5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6500"/>
                            </p:stCondLst>
                            <p:childTnLst>
                              <p:par>
                                <p:cTn id="5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7000"/>
                            </p:stCondLst>
                            <p:childTnLst>
                              <p:par>
                                <p:cTn id="59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Best combination</a:t>
            </a: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: </a:t>
            </a:r>
            <a:r>
              <a:rPr b="1" lang="en-US" sz="3600" spc="-1" strike="noStrike">
                <a:solidFill>
                  <a:srgbClr val="cc3300"/>
                </a:solidFill>
                <a:latin typeface="Tahoma"/>
              </a:rPr>
              <a:t>segmentation</a:t>
            </a:r>
            <a:r>
              <a:rPr b="1" lang="ru-RU" sz="36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Tahoma"/>
              </a:rPr>
              <a:t>+ scoring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4000" y="1844640"/>
            <a:ext cx="8569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dentify exact Segment potential responding to Expected Resul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Very useful in work with Low Segments (</a:t>
            </a: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Purge, Sleeping, even Prospects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ore additional information on client in your databas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More precise Scoring Model you ge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epending on Company’s opportunities TEST of each your New Action allows you to do 95% forecast of this Action future results (for extrapol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"/>
          <p:cNvGraphicFramePr/>
          <p:nvPr/>
        </p:nvGraphicFramePr>
        <p:xfrm>
          <a:off x="0" y="1025640"/>
          <a:ext cx="4676760" cy="583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25640"/>
                    <a:ext cx="4676760" cy="58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9" name=""/>
          <p:cNvSpPr/>
          <p:nvPr/>
        </p:nvSpPr>
        <p:spPr>
          <a:xfrm>
            <a:off x="4788000" y="5543640"/>
            <a:ext cx="435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omments: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the horizontal scale shows the index of over- and under-representation. This index shows the ratio of the response rate in each group to the average rat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-360" y="-459000"/>
            <a:ext cx="88930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filing: </a:t>
            </a: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3</a:t>
            </a:r>
            <a:r>
              <a:rPr b="1" lang="en-US" sz="2800" spc="-1" strike="noStrike" baseline="30000">
                <a:solidFill>
                  <a:srgbClr val="cc3300"/>
                </a:solidFill>
                <a:latin typeface="Tahoma"/>
              </a:rPr>
              <a:t>rd</a:t>
            </a: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 step to improve Action results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4932360" y="907920"/>
            <a:ext cx="42116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Answers to the </a:t>
            </a:r>
            <a:r>
              <a:rPr b="1" lang="en-US" sz="2600" spc="-1" strike="noStrike" u="sng">
                <a:solidFill>
                  <a:srgbClr val="cc3300"/>
                </a:solidFill>
                <a:uFillTx/>
                <a:latin typeface="Tahoma"/>
              </a:rPr>
              <a:t>question: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 “How to optimize Concrete DM Offer?”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643280" y="2708280"/>
            <a:ext cx="450072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Knowing the Profile of customers you are interested in (their habits, preferences, social status) you can choose </a:t>
            </a:r>
            <a:r>
              <a:rPr b="1" lang="en-US" sz="2300" spc="-1" strike="noStrike">
                <a:solidFill>
                  <a:srgbClr val="cc3300"/>
                </a:solidFill>
                <a:latin typeface="Tahoma"/>
              </a:rPr>
              <a:t>optimum Marketing approach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 to them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1116000" y="836640"/>
            <a:ext cx="7559640" cy="54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ANK YOU FOR YOU ATTENTION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questions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tacts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-mail: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public@datadirect.r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Тел. 775-86-8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-316440"/>
            <a:ext cx="75438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Presentation structure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3 MAIN STEP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 ORDER TO OPMIMIZE YOUR DATABASE EFFICIENC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ahoma"/>
              </a:rPr>
              <a:t>Database Segment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?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– METHOD TO US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?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– WHAT F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?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– HOW TO PUT INTO PRACTICE (DM ACTIVITIES PLANNING, BUDGETING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ahoma"/>
              </a:rPr>
              <a:t>Scoring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?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– HOW TO DEFINE OPTIMUM POTENTIAL WITHIN EACH SEGMENT FOR CONCRETE DM ACTION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ahoma"/>
              </a:rPr>
              <a:t>Profiling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?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– WHAT ELSE CAN WE DO TO IMPROVE MORE ACTION KP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?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– HOW CAN WE USE PROFILING METHOD IN ORDER TO DEFINE BEST WAYS TO RECRUIT POTENTIAL CUSTOM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2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45900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Database = Search of your potential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00000" y="4421160"/>
            <a:ext cx="2951280" cy="2198880"/>
          </a:xfrm>
          <a:prstGeom prst="rect">
            <a:avLst/>
          </a:prstGeom>
          <a:ln w="0">
            <a:noFill/>
          </a:ln>
        </p:spPr>
      </p:pic>
      <p:grpSp>
        <p:nvGrpSpPr>
          <p:cNvPr id="125" name=""/>
          <p:cNvGrpSpPr/>
          <p:nvPr/>
        </p:nvGrpSpPr>
        <p:grpSpPr>
          <a:xfrm>
            <a:off x="4067280" y="2276640"/>
            <a:ext cx="2158560" cy="2086920"/>
            <a:chOff x="4067280" y="2276640"/>
            <a:chExt cx="2158560" cy="2086920"/>
          </a:xfrm>
        </p:grpSpPr>
        <p:grpSp>
          <p:nvGrpSpPr>
            <p:cNvPr id="126" name=""/>
            <p:cNvGrpSpPr/>
            <p:nvPr/>
          </p:nvGrpSpPr>
          <p:grpSpPr>
            <a:xfrm>
              <a:off x="4067280" y="2276640"/>
              <a:ext cx="2158560" cy="2086920"/>
              <a:chOff x="4067280" y="2276640"/>
              <a:chExt cx="2158560" cy="208692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4067280" y="2276640"/>
                <a:ext cx="2158560" cy="2086920"/>
                <a:chOff x="4067280" y="2276640"/>
                <a:chExt cx="2158560" cy="208692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517000" y="3375720"/>
                  <a:ext cx="708840" cy="878400"/>
                </a:xfrm>
                <a:prstGeom prst="irregularSeal2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4067280" y="2276640"/>
                  <a:ext cx="1901520" cy="2086920"/>
                  <a:chOff x="4067280" y="2276640"/>
                  <a:chExt cx="1901520" cy="2086920"/>
                </a:xfrm>
              </p:grpSpPr>
              <p:grpSp>
                <p:nvGrpSpPr>
                  <p:cNvPr id="130" name=""/>
                  <p:cNvGrpSpPr/>
                  <p:nvPr/>
                </p:nvGrpSpPr>
                <p:grpSpPr>
                  <a:xfrm>
                    <a:off x="4067280" y="2276640"/>
                    <a:ext cx="1901520" cy="2086920"/>
                    <a:chOff x="4067280" y="2276640"/>
                    <a:chExt cx="1901520" cy="2086920"/>
                  </a:xfrm>
                </p:grpSpPr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4325040" y="3448440"/>
                      <a:ext cx="708840" cy="878400"/>
                    </a:xfrm>
                    <a:prstGeom prst="irregularSeal2">
                      <a:avLst/>
                    </a:prstGeom>
                    <a:blipFill rotWithShape="0">
                      <a:blip r:embed="rId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4647600" y="3485160"/>
                      <a:ext cx="708840" cy="878400"/>
                    </a:xfrm>
                    <a:prstGeom prst="irregularSeal2">
                      <a:avLst/>
                    </a:prstGeom>
                    <a:blipFill rotWithShape="0">
                      <a:blip r:embed="rId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4969440" y="3485160"/>
                      <a:ext cx="708840" cy="878400"/>
                    </a:xfrm>
                    <a:prstGeom prst="irregularSeal2">
                      <a:avLst/>
                    </a:pr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5259960" y="3448440"/>
                      <a:ext cx="708840" cy="878400"/>
                    </a:xfrm>
                    <a:prstGeom prst="irregularSeal2">
                      <a:avLst/>
                    </a:pr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4067280" y="3411720"/>
                      <a:ext cx="708840" cy="878400"/>
                    </a:xfrm>
                    <a:prstGeom prst="irregularSeal2">
                      <a:avLst/>
                    </a:pr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4905360" y="3192120"/>
                      <a:ext cx="708840" cy="878400"/>
                    </a:xfrm>
                    <a:prstGeom prst="irregularSeal2">
                      <a:avLst/>
                    </a:prstGeom>
                    <a:blipFill rotWithShape="0">
                      <a:blip r:embed="rId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5259960" y="3045240"/>
                      <a:ext cx="708840" cy="878400"/>
                    </a:xfrm>
                    <a:prstGeom prst="irregularSeal2">
                      <a:avLst/>
                    </a:prstGeom>
                    <a:blipFill rotWithShape="0">
                      <a:blip r:embed="rId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4131720" y="2972520"/>
                      <a:ext cx="708840" cy="878400"/>
                    </a:xfrm>
                    <a:prstGeom prst="irregularSeal2">
                      <a:avLst/>
                    </a:prstGeom>
                    <a:blipFill rotWithShape="0">
                      <a:blip r:embed="rId1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5065920" y="2825640"/>
                      <a:ext cx="708840" cy="878400"/>
                    </a:xfrm>
                    <a:prstGeom prst="irregularSeal2">
                      <a:avLst/>
                    </a:prstGeom>
                    <a:blipFill rotWithShape="0">
                      <a:blip r:embed="rId1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4905360" y="2459880"/>
                      <a:ext cx="676080" cy="951120"/>
                    </a:xfrm>
                    <a:prstGeom prst="irregularSeal2">
                      <a:avLst/>
                    </a:prstGeom>
                    <a:blipFill rotWithShape="0">
                      <a:blip r:embed="rId1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5292000" y="2789280"/>
                      <a:ext cx="386280" cy="549000"/>
                    </a:xfrm>
                    <a:prstGeom prst="irregularSeal2">
                      <a:avLst/>
                    </a:prstGeom>
                    <a:blipFill rotWithShape="0">
                      <a:blip r:embed="rId1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4679640" y="2422440"/>
                      <a:ext cx="580320" cy="695880"/>
                    </a:xfrm>
                    <a:prstGeom prst="irregularSeal2">
                      <a:avLst/>
                    </a:prstGeom>
                    <a:blipFill rotWithShape="0">
                      <a:blip r:embed="rId1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4582800" y="2276640"/>
                      <a:ext cx="451080" cy="695160"/>
                    </a:xfrm>
                    <a:prstGeom prst="irregularSeal2">
                      <a:avLst/>
                    </a:prstGeom>
                    <a:blipFill rotWithShape="0">
                      <a:blip r:embed="rId1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4389840" y="2642400"/>
                      <a:ext cx="547560" cy="804960"/>
                    </a:xfrm>
                    <a:prstGeom prst="irregularSeal2">
                      <a:avLst/>
                    </a:prstGeom>
                    <a:blipFill rotWithShape="0">
                      <a:blip r:embed="rId1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4679640" y="2789280"/>
                      <a:ext cx="547560" cy="804960"/>
                    </a:xfrm>
                    <a:prstGeom prst="irregularSeal2">
                      <a:avLst/>
                    </a:prstGeom>
                    <a:blipFill rotWithShape="0">
                      <a:blip r:embed="rId1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" name=""/>
                  <p:cNvSpPr/>
                  <p:nvPr/>
                </p:nvSpPr>
                <p:spPr>
                  <a:xfrm>
                    <a:off x="4582800" y="3082320"/>
                    <a:ext cx="708840" cy="878400"/>
                  </a:xfrm>
                  <a:prstGeom prst="irregularSeal2">
                    <a:avLst/>
                  </a:prstGeom>
                  <a:blipFill rotWithShape="0">
                    <a:blip r:embed="rId18"/>
                    <a:srcRect/>
                    <a:tile tx="0" ty="0" sx="100000" sy="100000" algn="ctr"/>
                  </a:blip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4582800" y="2679480"/>
                    <a:ext cx="547560" cy="804960"/>
                  </a:xfrm>
                  <a:prstGeom prst="irregularSeal2">
                    <a:avLst/>
                  </a:prstGeom>
                  <a:blipFill rotWithShape="0">
                    <a:blip r:embed="rId19"/>
                    <a:srcRect/>
                    <a:tile tx="0" ty="0" sx="100000" sy="100000" algn="ctr"/>
                  </a:blip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4679640" y="2276640"/>
                    <a:ext cx="676800" cy="878400"/>
                  </a:xfrm>
                  <a:prstGeom prst="irregularSeal2">
                    <a:avLst/>
                  </a:prstGeom>
                  <a:blipFill rotWithShape="0">
                    <a:blip r:embed="rId20"/>
                    <a:srcRect/>
                    <a:tile tx="0" ty="0" sx="100000" sy="100000" algn="ctr"/>
                  </a:blip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9" name=""/>
              <p:cNvSpPr/>
              <p:nvPr/>
            </p:nvSpPr>
            <p:spPr>
              <a:xfrm>
                <a:off x="5646600" y="3265560"/>
                <a:ext cx="386280" cy="475560"/>
              </a:xfrm>
              <a:prstGeom prst="irregularSeal2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4582800" y="2715840"/>
              <a:ext cx="708840" cy="878400"/>
            </a:xfrm>
            <a:prstGeom prst="irregularSeal2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2484360" y="2349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 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96360" y="2781360"/>
            <a:ext cx="358560" cy="3618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108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20000" y="35733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2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27640" y="2133720"/>
            <a:ext cx="358920" cy="2160360"/>
          </a:xfrm>
          <a:custGeom>
            <a:avLst/>
            <a:gdLst>
              <a:gd name="textAreaLeft" fmla="*/ 0 w 358920"/>
              <a:gd name="textAreaRight" fmla="*/ 129600 w 358920"/>
              <a:gd name="textAreaTop" fmla="*/ 56160 h 2160360"/>
              <a:gd name="textAreaBottom" fmla="*/ 2104200 h 21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95640" y="4292640"/>
            <a:ext cx="358920" cy="2376360"/>
          </a:xfrm>
          <a:custGeom>
            <a:avLst/>
            <a:gdLst>
              <a:gd name="textAreaLeft" fmla="*/ 0 w 358920"/>
              <a:gd name="textAreaRight" fmla="*/ 129600 w 35892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64000" y="5229360"/>
            <a:ext cx="1008360" cy="936360"/>
          </a:xfrm>
          <a:custGeom>
            <a:avLst/>
            <a:gdLst>
              <a:gd name="textAreaLeft" fmla="*/ 60480 w 1008360"/>
              <a:gd name="textAreaRight" fmla="*/ 947880 w 1008360"/>
              <a:gd name="textAreaTop" fmla="*/ 60480 h 936360"/>
              <a:gd name="textAreaBottom" fmla="*/ 875880 h 936360"/>
            </a:gdLst>
            <a:ahLst/>
            <a:rect l="textAreaLeft" t="textAreaTop" r="textAreaRight" b="textAreaBottom"/>
            <a:pathLst>
              <a:path w="23260" h="21600">
                <a:moveTo>
                  <a:pt x="0" y="0"/>
                </a:moveTo>
                <a:lnTo>
                  <a:pt x="23260" y="0"/>
                </a:lnTo>
                <a:lnTo>
                  <a:pt x="23260" y="21600"/>
                </a:lnTo>
                <a:lnTo>
                  <a:pt x="0" y="21600"/>
                </a:lnTo>
                <a:close/>
              </a:path>
              <a:path fill="lightenLess" w="23260" h="21600">
                <a:moveTo>
                  <a:pt x="0" y="0"/>
                </a:moveTo>
                <a:lnTo>
                  <a:pt x="23260" y="0"/>
                </a:lnTo>
                <a:lnTo>
                  <a:pt x="21860" y="1400"/>
                </a:lnTo>
                <a:lnTo>
                  <a:pt x="1400" y="1400"/>
                </a:lnTo>
                <a:close/>
              </a:path>
              <a:path fill="darken" w="23260" h="21600">
                <a:moveTo>
                  <a:pt x="23260" y="0"/>
                </a:moveTo>
                <a:lnTo>
                  <a:pt x="23260" y="21600"/>
                </a:lnTo>
                <a:lnTo>
                  <a:pt x="21860" y="20200"/>
                </a:lnTo>
                <a:lnTo>
                  <a:pt x="21860" y="1400"/>
                </a:lnTo>
                <a:close/>
              </a:path>
              <a:path fill="darkenLess" w="23260" h="21600">
                <a:moveTo>
                  <a:pt x="23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60" y="20200"/>
                </a:lnTo>
                <a:close/>
              </a:path>
              <a:path fill="lighten" w="23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60" h="21600">
                <a:moveTo>
                  <a:pt x="1163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260" h="21600">
                <a:moveTo>
                  <a:pt x="12736" y="14281"/>
                </a:moveTo>
                <a:lnTo>
                  <a:pt x="12736" y="12323"/>
                </a:lnTo>
                <a:cubicBezTo>
                  <a:pt x="12736" y="11496"/>
                  <a:pt x="13066" y="10800"/>
                  <a:pt x="13667" y="10800"/>
                </a:cubicBezTo>
                <a:cubicBezTo>
                  <a:pt x="14798" y="10800"/>
                  <a:pt x="15695" y="9434"/>
                  <a:pt x="15695" y="7849"/>
                </a:cubicBezTo>
                <a:cubicBezTo>
                  <a:pt x="15695" y="5534"/>
                  <a:pt x="13841" y="3794"/>
                  <a:pt x="11630" y="3794"/>
                </a:cubicBezTo>
                <a:cubicBezTo>
                  <a:pt x="9419" y="3794"/>
                  <a:pt x="7748" y="5534"/>
                  <a:pt x="7748" y="7849"/>
                </a:cubicBezTo>
                <a:lnTo>
                  <a:pt x="9602" y="7849"/>
                </a:lnTo>
                <a:cubicBezTo>
                  <a:pt x="9602" y="6709"/>
                  <a:pt x="10525" y="5821"/>
                  <a:pt x="11630" y="5821"/>
                </a:cubicBezTo>
                <a:cubicBezTo>
                  <a:pt x="12736" y="5821"/>
                  <a:pt x="13667" y="6709"/>
                  <a:pt x="13667" y="7849"/>
                </a:cubicBezTo>
                <a:cubicBezTo>
                  <a:pt x="13667" y="8589"/>
                  <a:pt x="13197" y="9320"/>
                  <a:pt x="12736" y="9320"/>
                </a:cubicBezTo>
                <a:cubicBezTo>
                  <a:pt x="11630" y="9320"/>
                  <a:pt x="10525" y="10800"/>
                  <a:pt x="10525" y="12323"/>
                </a:cubicBezTo>
                <a:lnTo>
                  <a:pt x="10525" y="14281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6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Segmentation: What for</a:t>
            </a: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?</a:t>
            </a:r>
            <a:br>
              <a:rPr sz="3600"/>
            </a:br>
            <a:r>
              <a:rPr b="1" lang="en-US" sz="3600" spc="-1" strike="noStrike">
                <a:solidFill>
                  <a:srgbClr val="cc3300"/>
                </a:solidFill>
                <a:latin typeface="Tahoma"/>
              </a:rPr>
              <a:t>1</a:t>
            </a:r>
            <a:r>
              <a:rPr b="1" lang="en-US" sz="3600" spc="-1" strike="noStrike" baseline="30000">
                <a:solidFill>
                  <a:srgbClr val="cc3300"/>
                </a:solidFill>
                <a:latin typeface="Tahoma"/>
              </a:rPr>
              <a:t>st</a:t>
            </a:r>
            <a:r>
              <a:rPr b="1" lang="en-US" sz="3600" spc="-1" strike="noStrike">
                <a:solidFill>
                  <a:srgbClr val="cc3300"/>
                </a:solidFill>
                <a:latin typeface="Tahoma"/>
              </a:rPr>
              <a:t> step to improve your activity KPI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042920" y="2421000"/>
            <a:ext cx="2759040" cy="33130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547640" y="2708280"/>
            <a:ext cx="2289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Your Database</a:t>
            </a: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prosp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clients (buyers)</a:t>
            </a: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73480" y="2209680"/>
            <a:ext cx="374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andom selection: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sponse Rate = 0,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92560" y="3200400"/>
            <a:ext cx="405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andom selection from buyers: 5% 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11640" y="4191120"/>
            <a:ext cx="37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How to get 10% R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3995640" y="2701800"/>
            <a:ext cx="719280" cy="7192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95640" y="3497400"/>
            <a:ext cx="863640" cy="28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95640" y="3573360"/>
            <a:ext cx="719280" cy="7192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262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349920" indent="-16776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used for Database segmentation in Europe and USA since 1963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34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349920" indent="-167760">
              <a:lnSpc>
                <a:spcPct val="90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adequate for all types of Databases: retail, e-commerce, mail order … B2C and B2B businesses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3499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349920" indent="-167760">
              <a:lnSpc>
                <a:spcPct val="90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based on 3 criteria of client’s activity: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Tahoma"/>
              </a:rPr>
              <a:t>Recency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 of last purchase (action),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Tahoma"/>
              </a:rPr>
              <a:t>Frequency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 of purchases (action) and sometimes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Tahoma"/>
              </a:rPr>
              <a:t>Monetary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 ($ spent in Company)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3499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349920" indent="-167760">
              <a:lnSpc>
                <a:spcPct val="90000"/>
              </a:lnSpc>
              <a:spcBef>
                <a:spcPts val="624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allows Company to develop optimal Contacts Plan for prospects and existing clients and to optimize budget figures </a:t>
            </a: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-360" y="-3160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RFM</a:t>
            </a: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-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segmentation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0" y="1506600"/>
          <a:ext cx="5148360" cy="323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06600"/>
                    <a:ext cx="5148360" cy="32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4262400" y="4076640"/>
          <a:ext cx="4881600" cy="2781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2400" y="4076640"/>
                    <a:ext cx="488160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5105520" y="2209680"/>
            <a:ext cx="3733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Self-descriptiveness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: 8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RFM</a:t>
            </a: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-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segmentation</a:t>
            </a: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: 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R</a:t>
            </a: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-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recency</a:t>
            </a: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, 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recency of last purchase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0" y="1515960"/>
          <a:ext cx="5210280" cy="322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15960"/>
                    <a:ext cx="5210280" cy="32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4184640" y="4184640"/>
          <a:ext cx="4959360" cy="2695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84640" y="4184640"/>
                    <a:ext cx="4959360" cy="26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5410080" y="2209680"/>
            <a:ext cx="3733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Self-descriptiveness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: 6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440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RFM</a:t>
            </a: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-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segmentation</a:t>
            </a: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: 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F</a:t>
            </a: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-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frequency</a:t>
            </a: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, 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number of purchas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324000" y="1916280"/>
          <a:ext cx="7176960" cy="4665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916280"/>
                    <a:ext cx="7176960" cy="46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4427640" y="1341360"/>
            <a:ext cx="4400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Self-descriptiveness: 90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RFM</a:t>
            </a: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-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segmentation</a:t>
            </a: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: 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ombination</a:t>
            </a: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R and</a:t>
            </a: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F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6T06:44:21Z</dcterms:created>
  <dc:creator>Rykovskaya</dc:creator>
  <dc:description/>
  <dc:language>en-US</dc:language>
  <cp:lastModifiedBy>SINHROTEL</cp:lastModifiedBy>
  <dcterms:modified xsi:type="dcterms:W3CDTF">2005-09-15T10:49:40Z</dcterms:modified>
  <cp:revision>57</cp:revision>
  <dc:subject/>
  <dc:title>Слайд 1</dc:title>
</cp:coreProperties>
</file>